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pptx" ContentType="application/vnd.openxmlformats-officedocument.presentationml.presentation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07F-8D39-4B8A-B813-7C60ED87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854-8CF2-414D-9B89-8B3C9189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E10-36DB-437F-98AC-C98F7F2B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EA2-2DB6-4DD7-98EA-72B7307E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F043-39BC-4B0E-BAA0-8158FCE3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3D19-E696-4E83-8797-F4CDF281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EC9-DEEE-4B7D-8A6C-0BD915F4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CAAF-D67D-4458-A138-BBA5702B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5E98-4120-431F-8440-05973DF0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3F5-FA89-4125-9BC8-82D86FF6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713E-F753-47C7-9603-3A403D8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126-D83E-4DDF-A7D3-E69D84A5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3FF-96C9-4643-9871-A67DFA1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3AC8-F878-47FC-BDFA-4BDB865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046A-BCA1-4D72-8466-42E5BB5F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4D0A-5FE2-4C08-8265-5E9D0746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00D9-83FE-40D2-9440-6720362C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274-3703-4E98-B8AB-D9AFF33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B41-0658-439B-B941-B7400CA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F12-1D60-4A20-B883-1F8D991A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D0E-EC08-4081-B0BE-78CBE00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C98-24B4-45E7-8173-6AB3F65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09C-F339-4690-91E5-C97A7A8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F7B-2EB1-48EC-9801-90CC890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0BE-8EC9-43A5-9AD5-F97E505E568A}" type="slidenum">
              <a:rPr b="0" lang="hu-H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C889-8014-40E2-B758-202C428C2C43}" type="slidenum">
              <a:rPr b="0" lang="hu-H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ternet menedzsmen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M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protokoll architektúrá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anagement Information Base (MIB)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szabvány írja le, hogy a router-eknek, hosztoknak (és egyéb eszközöknek) milyen adatokat kell nyilvántartaniuk, és ezeken milyen műveleteket kell megengedniü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l.: az IP szoftvernek nyilván kell tartania, hogy hány byte érkezett az egyes interfészeire, és hogy ezek az adatok csak olvasható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c3aa"/>
                </a:solidFill>
                <a:latin typeface="Arial"/>
              </a:rPr>
              <a:t>A TCP/IP MIB a menedzselt információt 8 kategóriába sorolja:</a:t>
            </a:r>
            <a:endParaRPr b="0" lang="en-US" sz="36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342520"/>
                <a:gridCol w="5886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B kategó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ációt ad az alábbiakró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hoszt vagy router operációs rendsz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fa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hálózati interfés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dr. tra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ím fordítás (pl. ARP leképzé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net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net Control Message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mission Control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er Datagram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erior Gateway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IB definíció független a menedzsment protokolltó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IB változhat, új adatok jelenhetnek meg benne, amelyeket az agent-ek nem tudnak szolgáltatn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szabványnak eleget tevő agent és kliens programok kommunikálnak egymással akkor is, ha az agent nem tartalmazza az összes adatot, amely a MIB-ben szerepe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Példák MIB változókra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539640" y="907920"/>
          <a:ext cx="8136000" cy="5429520"/>
        </p:xfrm>
        <a:graphic>
          <a:graphicData uri="http://schemas.openxmlformats.org/drawingml/2006/table">
            <a:tbl>
              <a:tblPr/>
              <a:tblGrid>
                <a:gridCol w="2116080"/>
                <a:gridCol w="2116440"/>
                <a:gridCol w="390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B változ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elent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sUpT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olsó reboot óta eltelt id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N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fa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hálózati interfész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M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fa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interfész MTU-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DefaultTT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TL mezőben használt érté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InReceiv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beérkezet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ForwDatagr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ovábbítot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OutNoRou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routing hib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ReasmO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újraösszeállítot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FragO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ördel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Routing 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 routing táb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mpInEch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ICMP echo kérés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Rto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legkisebb újraküldési idő, amelyet a TCP megeng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MaxCon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maximálisan megengedett TCP kapcs.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InSeg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CP által fogadott szegmens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dpInDatagr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fogadott UDP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pInMsg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fogadott EGP üzenet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0" y="59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 MIB objektum nevek struktúrája és megjelenítése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bjektum azonosító névteret (object identifier namespace) az ISO és az ITU adminisztrá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bjektum azonosító névtér bármilyen lehetséges objektum nevét tartalmazhatja, nem csak MIB változókét (pl. protokoll szabvány nev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bjektum azonosító névtér globális, vagyis minden név globálisan egyed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elépítése hierarchikus. A névtér egyes részei kezelésének joga különböző csoportokhoz van rendel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névtér felépítés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95280" y="1268280"/>
          <a:ext cx="3552840" cy="4448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35528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356000" y="1773360"/>
          <a:ext cx="3990960" cy="32288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773360"/>
                    <a:ext cx="399096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névtér felépítés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yökér névtelen. Minden leszármazottnak van egy neve (emberi olvasásra), és egy száma (gépi azonosításra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-egy objektum neve pontokkal elválasztott címkék vagy számok sorozata a gyökértől az objektumi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MIB változó 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so.org.dod.internet.mgmt.mib vagy az 1.3.6.1.2.1 előtaggal kezdőd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ip kategó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so.org.dod.internet.mgmt.mib.ip vagy az 1.3.6.1.2.1.4 előtaggal kezdőd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ipInReceives MIB változó ne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so.org.dod.internet.mgmt.mib.ip.ipInReceives vagy az 1.3.6.1.2.1.4.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változó neve és az azonosító száma közötti megfeleltetést a szabvány tartalmaz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Simple Network Management Protocol (SNMP)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rotokoll specifikálja a kliens (menedzsment program) és a szerver (menedzselt eszköz: router, hoszt,…) közötti kommunikációt: üzenetek alakja és jelentése, az üzenetekben lévő adatok neve és értéke, a menedzserek azonosítása, jogainak ellenőrzé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SNMP csak néhány műveletet tartalmaz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űveletek végrehajtását a fetch-store (lekér-visszaír) módszerrel oldja me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Változók lekérésére, és értékek visszaírására van lehetőség. Minden más művelet ezek mellékhatásaként lesz végrehajtv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l.: Nincs explicit reboot paranc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Helyette lehet definiálni olyan MIB változó, amely tartalmazza a következő reboot-ig hátralévő idő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zt az időt az SNMP-vel megadhatjuk (akár 0 is lehet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Mi is az Internet menedzs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nternet szolgáltatási és alkalmazói programjain kívül szükség van olyan programra is, amely segíti az üzemeltetőket a hibák feltárásában, a forgalomirányítás vezérlésében, a számítógépek hibás protokolljainak felderítéséb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zt a tevékenységet internet menedzsmentnek nevezzü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Az SNMP parancsa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get-request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ekéri egy változó értéké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get-next-request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ekéri egy változó értékét, anélkül, hogy megadnánk a nevé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get-response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álasz egy lekérés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set-response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ltárolja egy változó értéké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trap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álasz  egy kiváltott esemény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SNMP deklarálja, hogy a műveletek atomi jellegűek, vagyis ha az SNMP üzenet több változó megváltozásával jár, akkor vagy mindegyik megváltozik, vagy egyik s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trap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űvelet, lehetővé teszi, hogy bizonyos, előre megadott események bekövetkezésekor az agent információt küldjön a kliens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Internet több és különböző típusú hálózatokból áll, amelyeket router-ek kapcsolnak össz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ellemző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router-ek különböző típusúak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menedzselendő eszközök nem rendelkeznek közös adatkapcsolati protokollal, é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hálózat különböző pontjain helyezkednek e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jellemzőkből következően a menedzsment szoftvernek olyan protokollal kell rendelkeznie, amely az Internet bármely két pontja közötti kapcsolatot biztosítj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zért az Internet menedzsment protokollok alkalmazási szinten működnek, és a TCP/IP szállítási protokolljait használják kommunikációra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alkalmazási szint használatának előnyei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gendő egyetlen protokoll készlet az egész internet menedzselésére (hálózati hardvertől függetl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legkülönbözőbb típusú eszközök menedzselhetők ugyanazzal a protokoll készlette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enedzser szemszögéből: az összes eszköz ugyanazzal a parancskészlettel vezérelhet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IP protokoll használata miatt bármelyik fizikai hálózaton lévő eszközök menedzselhető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alkalmazási szint használatának hátrányai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perációs rendszernek, az IP szoftvernek és a szállítási protokollnak is hibátlanul kell működnie, hogy a menedzser elérje a vezérlendő eszköz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l. a router hibás routing táblája miatt nem érhető el és nem javítható ki a routing táblá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router operációs rendszere nem működik, akkor a menedzsment szoftver sem működik rajta, miközben a csomagokat route-o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modell architektúrája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enedzselni kívánt eszközök (hosztok, router-ek, switch-ek) egy szerver programot futtatnak (MS), amelyet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anagement agent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-nek nevezün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enedzser egy kliens programot futtat a számítógépén (MC) és kijelöli azt az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gent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-et, amellyel kommunikálni ak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zután a kliens lekérdezheti a szervert (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gent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) vagy olyan parancsot küld, amellyel megváltoztatja az állapot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674640" y="460440"/>
          <a:ext cx="7796160" cy="59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460440"/>
                    <a:ext cx="779616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132000" y="3213000"/>
          <a:ext cx="52560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213000"/>
                    <a:ext cx="5256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924360" y="4653000"/>
          <a:ext cx="52524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653000"/>
                    <a:ext cx="5252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580000" y="4437000"/>
          <a:ext cx="52560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4437000"/>
                    <a:ext cx="5256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284720" y="3213000"/>
          <a:ext cx="52524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3213000"/>
                    <a:ext cx="525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140360" y="1989000"/>
          <a:ext cx="525240" cy="7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1989000"/>
                    <a:ext cx="525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79280" y="2276640"/>
          <a:ext cx="65088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2276640"/>
                    <a:ext cx="6508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500720" y="189000"/>
          <a:ext cx="536400" cy="71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189000"/>
                    <a:ext cx="5364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835280" y="404640"/>
          <a:ext cx="583920" cy="77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35280" y="404640"/>
                    <a:ext cx="5839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476360" y="5877000"/>
          <a:ext cx="608040" cy="577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6360" y="5877000"/>
                    <a:ext cx="6080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8317080" y="4149720"/>
          <a:ext cx="639720" cy="60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317080" y="4149720"/>
                    <a:ext cx="639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219640" y="1557360"/>
          <a:ext cx="776520" cy="603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19640" y="1557360"/>
                    <a:ext cx="776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516720" y="3500280"/>
          <a:ext cx="776160" cy="603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516720" y="3500280"/>
                    <a:ext cx="776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643280" y="5157720"/>
          <a:ext cx="776520" cy="603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5157720"/>
                    <a:ext cx="776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411280" y="4005360"/>
          <a:ext cx="776520" cy="603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11280" y="4005360"/>
                    <a:ext cx="7765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700360" y="2349360"/>
          <a:ext cx="776160" cy="603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700360" y="2349360"/>
                    <a:ext cx="776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 flipH="1">
            <a:off x="2050560" y="5516640"/>
            <a:ext cx="2808360" cy="649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916000" y="4365720"/>
            <a:ext cx="1150920" cy="358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4941720"/>
            <a:ext cx="647640" cy="43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076720" y="4797000"/>
            <a:ext cx="719280" cy="64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012000" y="3933360"/>
            <a:ext cx="792000" cy="64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093080" y="3860280"/>
            <a:ext cx="136656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87640" y="3573000"/>
            <a:ext cx="289080" cy="64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2708280"/>
            <a:ext cx="21744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59280" y="3573360"/>
            <a:ext cx="1296720" cy="719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716360" y="1989000"/>
            <a:ext cx="863640" cy="136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572000" y="1989000"/>
            <a:ext cx="93672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76720" y="2349360"/>
            <a:ext cx="93492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32360" y="549360"/>
            <a:ext cx="6476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40000" y="836640"/>
            <a:ext cx="719280" cy="165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2781360"/>
            <a:ext cx="201600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protokoll architektúrá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enedzsment protokollokat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2 szabvány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írja l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z információ kommunikációjával foglalkozik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a kliens és az agent között. Leírja az üzenetek formáját és jelentését, valamint a nevek és címek alakj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 menedzselt adatokkal foglalkozik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. Leírja, hogy milyen adatokat kell nyilvántartani, az adatok nevét és szintaxis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protokoll architektúrá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etwork Management Protocol szabvá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CP/IP-ben használt menedzsment protokoll: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Simple Network Management Protocol (SNMP)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. Újabb változat: SNMPv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enedzselt információra vonatkozó szabvá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enedzselt router-ek állapot és vezérlő információt tartalmaznak, amelyekhez a menedzser hozzáférhet. Ilyene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tatisztika interfészekről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bejövő és kimenő forgalom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eldobott csomago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generált hibaüzenetek, stb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7:34:06Z</dcterms:created>
  <dc:creator>Nagymáté Péter</dc:creator>
  <dc:description/>
  <dc:language>en-US</dc:language>
  <cp:lastModifiedBy>Nagymáté Péter</cp:lastModifiedBy>
  <dcterms:modified xsi:type="dcterms:W3CDTF">2004-12-16T08:16:12Z</dcterms:modified>
  <cp:revision>9</cp:revision>
  <dc:subject/>
  <dc:title>Internet menedzsment</dc:title>
</cp:coreProperties>
</file>